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11.pct" ContentType="image/x-pict"/>
  <Override PartName="/ppt/media/image14.pct" ContentType="image/x-pict"/>
  <Override PartName="/ppt/media/image2.jpeg" ContentType="image/jpeg"/>
  <Override PartName="/ppt/media/image3.jpeg" ContentType="image/jpeg"/>
  <Override PartName="/ppt/media/image15.pct" ContentType="image/x-pict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pct" ContentType="image/x-pi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4D9-7472-4A50-B34F-30A9E4FB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D29-4624-4760-B9DA-89589DB2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B54-E4CD-4964-8397-CF8B1B45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A09-2134-49A5-878F-E9920E75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43D4-714A-4459-A985-0F32351D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470F-FC94-4F72-875F-A679A463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3F8D-0556-4BE6-AE67-3F82B4A2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7151-CC8C-40B4-B65F-77738ED7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B069-7B06-4F3A-86BA-799FECEA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30E6-F0F5-4545-BEBE-4B5959A2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1269-6B9E-49EC-9CF2-8CA11EC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071-9810-4D7B-A28F-29696A2E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F028-47F0-4DCD-A0CA-90CD2F1B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DDB6-6D12-4382-96CC-20C3D81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5169-D327-4C88-ADD4-979369A8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F351-8298-4196-856C-B1850162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EF67-ABA2-4BF6-AA61-D4AFD9A1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10C8-C4FD-478E-8067-29079A9B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8573-FE49-4F1F-9EB7-BC807412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2D31-FABD-4A95-92EC-C2C7B72D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67C2-FEA3-4ABC-9A3A-0FFF4DD2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D2B6-811F-4A32-B304-97D874F7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C13-38BC-4AE9-9E45-FEFFF93B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087F-8DB5-4498-B44A-51899C82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65D8-4608-4E90-B03F-50E2E78B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5E7C-0A76-48B3-BA4C-98188D7C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77CA-6432-4B4F-A5B1-22C70CE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974E-FB1C-4932-84AB-C962FDD8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E121-FF7D-4948-9AE1-C079F762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C614-7699-40C1-B780-765068BF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0BBC-4C56-4B97-AD68-D34247B7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10AD0-C51D-4790-B11F-C2EA5694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B94A-F7F4-455E-B6F8-7842F565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D1D-61E2-49DA-A6C5-80B67620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3EAD-F8E2-4DF1-96C3-45909C38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D4A6-5486-4E47-9C49-DE24128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3BA4-A52A-4273-A556-AB25DDEF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2EDD-B748-4A88-A8A7-B5C4168A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38B7-D077-487C-ACAF-94C0564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65E1-9F15-421E-B615-097FC981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2EF58-3FF4-44C1-86C6-58BCB012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2825-F04F-40B7-82FF-A44DFED4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5E825-B817-41A0-B08B-D5439775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17E-499B-445C-A1B6-5EB480B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18B-5EFB-447A-891F-DF4D6784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AA1-5443-46E8-B2F1-8E99DD1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9C4-B285-4E8E-89BB-4CDFEA27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93F-943A-4D41-98F8-575F9BEC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db96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DDBF-472C-447C-8CAE-95D1AEED69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db96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40F8-9659-44D7-A21C-ACC6F34580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1265-3991-45C9-9412-86B232F3C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41FE-DF1C-4969-8E5F-F0E9F48E1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4.pct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3.jpeg"/><Relationship Id="rId7" Type="http://schemas.openxmlformats.org/officeDocument/2006/relationships/image" Target="../media/image9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ct"/><Relationship Id="rId10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influences &amp; determines populati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Investig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First, set up the Yeast Population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lab instructions to prepare a yeast population.  We’ll measure its growth rate over the next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up as instructed when you’r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Once you’ve got your population set up, and have taken your first measurement of its size, begin the Human Country Comparison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uman 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conditions in other parts of the world, compare to condition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ef interest is population size and grow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variables I’m asking you to research, which do you think would best correlate to or impact how quickly a population will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opulations - human, yeast, plant, anything - follow the same general equations for the rate at which their population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s = Population at start.  Pe = Population at end, r = growth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Pe-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equation is fine if the growth has already happened, but not helpful if we want to predict what’s GOING to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re are four events that increase or decrease a population size: Birth, death, immigration, e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birth and death.  Immigration = new individual moves in.  Emigration = Individual move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f you know birth, death, immigration, and emigration rate, what might be the equation for growth 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 = growth rate, B = birth rate, D = death rate, I = immigration rate, E = emigr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ep in mind that each of these is the RATE, as in “B = number of births/total population,” not just plain “B = number of birth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 = B - D + I -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iology resources, possibly including MCAS, could leave immigration and emigration out.  In that case, growth = B - 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: questions 2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y is the study of groups of living things and their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is a group (all same species) that share a habi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ate is the rate at which a population size i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quations.  The first is better for change that already happened, the second is better for predic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(Pe-Ps)/Ps = B - D + I -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04960" y="13716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 populations of living things will initially follow a patter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onential grow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There’s going to be an exception, though, that we’ll get to next peri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so called “J-cur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exponential growth, the more individuals there are, the faster the population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, that’s different from “the bigger the population gets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0" y="2678040"/>
            <a:ext cx="33526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for the way that exponent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ance, exponential growth of f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71600" y="3235320"/>
          <a:ext cx="3657600" cy="3622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1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49840" y="3809880"/>
          <a:ext cx="4394160" cy="27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3809880"/>
                    <a:ext cx="4394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 Curv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 for Exponential Grow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 = change in population size, N = current population size, r =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 = 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n’t populations grow linearly?  Why exponenti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!  What is this?  Where have you seen this root “eco-”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grow exponentially because a bigger population has more babies than a smaller one, basic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opulations grew linearly, then every population - no matter whether it has 60 million individuals or 6 - would have the same number of offspring every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f course, that’s not how things work.  The more potential parents there are, the more children they’ll have.  So bigger populations will grow faster than small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The bacteri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E. coli live on your skin.  They split in half, called binary fission, to reproduce asexually.  They do this every 15 minutes. 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finds a patch of your skin that’s miraculously unoccupied so far and starts to reproduce.  How m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there be in the population after 5 hou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A pair of 1-year-old striped bass are dumped into a fishless bay.  These fish produce an average of 250,000 eggs a year.  Five years later, what will the bay’s striped bass population size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member, every two bass will make 250,000 eggs, so it’s simpler to calculate it as 125,000 eggs per one bass.  125,000 = 1.2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43000" cy="1163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0" y="5543640"/>
            <a:ext cx="16002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y is the study of groups of living things and their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is a group (all same species) that share a habi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ate is the rate at which a population size i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quations.  The first is better for change that already happened, the second is better for predic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(Pe-Ps)/Ps = B - D + I -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of all living things follow an exponential pattern of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ger the population, the higher its growth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quation for exponential population growth is ∆N = 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y!  What is this?  Where have you seen this root “eco-” bef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cology is the study of groups of organisms, and interactions that they have with each other and their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and other social justice movements have taken the term “ecology” and used it when coining new words.  They use “eco-” to generally mean environment, as in “eco-friendly,” “ecoterrorist,” “eco-product,” but in science it means the definition I g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y looks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organisms are in a group, and how are they distribu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size and location of this group change over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 members of this group interact with each other?  How do they interact with abiotic elements?  How do they interact with members of other sp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all the groups of organisms in an area create a system of inter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t studies how many organisms live and die, it has a lot of cross-over with environmental studies, so this unit will touch a lot on human impact on other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going to start the unit by talking about the simplest element of this whole system, which is numbers; how many critters are a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going to be a specific meaning to a word that you’ve already heard in normal conversational English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a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pulation = A collection of members of the same species who share a geographic area, 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bi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versational English, people tend to use population to just mean “the number of things in a group.”  We use the word with more precision in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pulation isn’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’s the group itself. The number of individuals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pulation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not just any group, it’s a group made up of individuals from the same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pulation = A collection of members of the same species who share a geographic area,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bi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Black-Eyed-Susans in a meadow are a population of Black-Eyed-Sus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ods behind Harwich High School probably have a small population of black-capped chickad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ods of the Upper Cape have a larger population of black-capped chickad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ond surely has a population of mid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af of bread may sadly hav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lapagos have a Pinta Island Tortoise population of 1, sad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ough, a bit of good news!  Two years ago, George accepted a lady turtle of a closely related subspecies to be his mate!  Sadly, their eggs proved to be infertile, but at least he’s not so lonesom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0" y="4952880"/>
            <a:ext cx="1731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pulation = A collection of members of the same species who share a geographic area,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bi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new level of organization to add to the ones we already learn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size is fairly straightforward.  It’s just how many individuals are in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ever, has some layers we’re going to get 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partner, brainstorm with respect to hum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termines how big a population will be this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termines how big that population will be nex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6:19:24Z</dcterms:created>
  <dc:creator>Rebecca Stang</dc:creator>
  <dc:description/>
  <dc:language>en-US</dc:language>
  <cp:lastModifiedBy>Rebecca Stang</cp:lastModifiedBy>
  <dcterms:modified xsi:type="dcterms:W3CDTF">2010-05-03T00:17:25Z</dcterms:modified>
  <cp:revision>72</cp:revision>
  <dc:subject/>
  <dc:title>Ecology</dc:title>
</cp:coreProperties>
</file>